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2DE-A1AD-4A70-88DE-B78947CC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E64-BB42-4E28-8B86-49D3F658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39B-7ADE-4B5A-8C44-E9498F9B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EFD-61EE-4CB3-99E5-BD98A088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1FD-1E0E-4340-B0C0-E42D26F5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5E07-3E65-4E21-8B6E-C3215CFA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7D29-E166-4020-8A60-C209D138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80A6-77B4-43F4-AD72-315072F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7AAB-282A-4C95-95C0-1033936B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DBF0-52A6-4671-851A-24CE202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0BE4-3DA0-46EA-BAEF-CEF552C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9AC-85F9-4B44-9EF0-F4489ECA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6928-6822-414A-959E-AE6CF273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964-DF29-4A53-B89A-98E4209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3B93-E567-483A-9B9D-C5BC1B0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4B1-B80A-4DF4-B158-CDE849AD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D4E-DB1A-46B9-9B3D-3725FE7F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159C5-3329-46D5-945F-F2D12DAA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249D3-6E10-4745-9743-EC3F888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00D6F-61D9-4DA0-A4BA-82118EA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053E4-D086-47AF-8987-B5496BD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344D4-FFE0-45BE-B913-8F1E08C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28C-82D6-4ECC-9249-D8386B0F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37AE7-273C-440D-A69A-AE0B87D7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C3CB0-9FFF-481F-ADE8-4C945C58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6AAD9-0117-4F05-93D5-22B13A6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EFA68-FE3A-4027-ADB0-00DCA16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9E65E-16D2-4E0D-A98C-E727F65D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1C608-E07B-473C-9694-8DA25FD6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05620-B466-472D-B51D-1A7B6D7A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DA2A-FF0C-47DB-A5FB-F2620CBF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47E3-339C-431A-B74B-6F29362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9D28-59C3-48BF-8E05-9FED3F0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255-9103-47E3-8C71-CC9C39E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52CC-FFA1-4C10-BA9C-5C59B90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9A02-6185-4474-BC10-5F7C1195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2525-4E0A-4DE5-AFBA-1E7E2AA2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3A05-29FB-4971-87C7-CEDE556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99C2-7E23-4479-A19C-866FD4C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3C1B-132F-4D12-8AA7-5E2B179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CDF8-2AD0-49A1-B120-1564DDF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6C85-B56D-4C89-8E28-979A546E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9D84-83E3-4117-BECE-6A6621F2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D359B-E575-4CF0-8803-A53B0BD64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282-A0D5-48D5-8FDD-EEBB0F7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67FD2-C04D-4044-9856-6746115045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2E848-2603-4847-8F60-F10A740F23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B1BE7-4CC8-4A0D-955E-63D3DFB04C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27634-AA3A-4051-8BFE-570705A8A7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280C4-AC58-4054-97DB-08F2F11DCE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5DE6D-BB0A-45F4-BBEB-67A046BABB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3367C-1280-4BD0-8702-D87414B4DE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98D26-D7A7-4F38-806D-E1D404DD15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998BA-B2CF-49F3-8E9C-5BB0D695DB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85325-B9A0-4767-950F-9D64904C5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27C-1D33-4420-80CF-AA8BADB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7C7EE-9DCE-4286-BCB2-8F026BD5A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551-32BC-4E13-8366-D4AA58A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4C2-D530-41D0-A027-F5FC3FE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19D-FEBF-447A-9FD4-3752046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09E-05F3-4345-8619-9335991C3B1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38A3-C9DD-4510-BAEB-23E3652EC1C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2A7-9763-4114-BCBA-171678CA117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EF0-6A8A-4B16-B673-713CE8DEBEF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3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4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B96-6ECB-4FF7-AFF6-1363C4F553A4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journals.lww.com/academicmedicine/Fulltext/2003/01000/Assessing_Students__Performances_in_a.19.aspx" TargetMode="External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202480" y="70020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324000" y="175248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63640" y="3124080"/>
            <a:ext cx="561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24456"/>
                </a:solidFill>
                <a:latin typeface="Times New Roman"/>
              </a:rPr>
              <a:t>10. наставна јединица (десе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Вештина комуникације у репродуктивној 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272840" y="573264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24456"/>
                </a:solidFill>
                <a:latin typeface="Times New Roman"/>
              </a:rPr>
              <a:t>Доц. др Марија Ш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Избор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анала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омуникациј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6560" y="22496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нет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и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Лична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зентациј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едиј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огађај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анифестац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List 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Picture Placeholder 1" descr="List 1"/>
          <p:cNvPicPr/>
          <p:nvPr/>
        </p:nvPicPr>
        <p:blipFill>
          <a:blip r:embed="rId1"/>
          <a:srcRect l="0" t="9142" r="0" b="9142"/>
          <a:stretch/>
        </p:blipFill>
        <p:spPr>
          <a:xfrm>
            <a:off x="457200" y="541440"/>
            <a:ext cx="5715000" cy="5715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List 1. The Nine Abilities Addressed in Brown Medical School's Competency-based Curriculu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13 Academic Medicine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B76-6F9B-4B5B-82A3-CFA58075A4E6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Assessing Students' Performances in a Competency-based Curriculu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mith, Stephen R.; Dollase, Richard H.; Boss, Judith A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Academic Medicine. 78(1):97-107, January 2003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oi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24456"/>
                </a:solidFill>
                <a:latin typeface="Trebuchet MS"/>
              </a:rPr>
              <a:t>Преглед у гинеколошкој амбуланти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У гинеколошком прегледу  учествују максимално три особе: пацијент, лекар и медицинска сестр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Разговор са пацијенткињом  и  упознавање са главним тегобам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Омогућити пацијенткињи интимни простор да се припеми за преглед (огртач, папуче...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Када се пацијенткиња смести на гинеколошки сто прилазимо да извршимо преглед (адекватни инструменти, одговарајуће осветљење, асистенција медицинске сестре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Током прегледа који треба да је што краћи али и што информативнији  потребна је максимална озбиљност и посвећеност пацијенту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Georgia"/>
              </a:rPr>
              <a:t>Особености гинеколошког преглед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icture Placeholder 2"/>
          <p:cNvSpPr/>
          <p:nvPr/>
        </p:nvSpPr>
        <p:spPr>
          <a:xfrm>
            <a:off x="468360" y="549360"/>
            <a:ext cx="5715000" cy="57150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ww.savjetnica.com/wp-content/uploads/2011/03/ginekoloska-ordinacija.jpg"/>
          <p:cNvPicPr/>
          <p:nvPr/>
        </p:nvPicPr>
        <p:blipFill>
          <a:blip r:embed="rId1"/>
          <a:srcRect l="23169" t="0" r="23169" b="0"/>
          <a:stretch/>
        </p:blipFill>
        <p:spPr>
          <a:xfrm>
            <a:off x="1476360" y="1341360"/>
            <a:ext cx="3816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 гинеколошкој пракси поред широког знања лекар мора да поседује и интерперсоналне и комуникационе вештине како би промовисао сарадњу, отвореност и поверење између пацијента и лека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кињу треба сагледати као целокупно биће које нема само здравствени проблем већ могућ и психолошки, социјални или породични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Однос лекара и пацијента би требао бити отворен, искрен и пажљив те захтева стрпљење, посвећеност, праксу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Кључне вештине: емпатија, пажљиво слушање, експертско знање и рапор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Поверење је од фундаменталног значаја: охрабрити пацијенткињу да искаже своја осећања, бриге и размишљање отворе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Хипократова заклетва: све добијене информације од пацијента су поверљив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Лекар не сме да осуђује, посебно у односу на питања која се односе на сексуалне односе, навике или сексуалну орјентаци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и су данас захтевнији у смислу балансиране комуникације: подробна објашњења о њиховом здравственом стању и начину лече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колико пацијенткиња донекле учествује у доношењу одлуке о начину лечења и осети да је добила доста информација о њеном здравственом стању, исход лечења ће бити бољ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интерперсонал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285228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јас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гов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о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умљив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ен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ба да буду крат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кла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лаго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о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актив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слушањ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560" y="1980720"/>
            <a:ext cx="77835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ме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с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ш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иш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е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ашњ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стиц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афраз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мирањ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ц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уч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н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6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9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br>
              <a:rPr sz="3600"/>
            </a:b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424456"/>
                </a:solidFill>
                <a:latin typeface="Arial"/>
              </a:rPr>
              <a:t>Gerry Wilson</a:t>
            </a: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)</a:t>
            </a: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06064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ПАРАЛИНГВИСТИЧК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кализ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и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уо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д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ОЧ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богати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10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АСПЕКАТА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НЕВЕРБАЛН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Тијана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Мандић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640" y="2133720"/>
            <a:ext cx="8013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ОК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ЕСТ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СТУР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ТМ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П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КСЕМ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ЕЋ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К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кациј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: </a:t>
            </a:r>
            <a:br>
              <a:rPr sz="4000"/>
            </a:b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разлик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између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ул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3" descr="Grimasa1in"/>
          <p:cNvPicPr/>
          <p:nvPr/>
        </p:nvPicPr>
        <p:blipFill>
          <a:blip r:embed="rId1"/>
          <a:stretch/>
        </p:blipFill>
        <p:spPr>
          <a:xfrm>
            <a:off x="1619280" y="2232000"/>
            <a:ext cx="583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2"/>
          <p:cNvSpPr/>
          <p:nvPr/>
        </p:nvSpPr>
        <p:spPr>
          <a:xfrm>
            <a:off x="1187280" y="1981080"/>
            <a:ext cx="7270920" cy="4648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1676520" y="2362320"/>
            <a:ext cx="5333760" cy="3733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1752480" y="2666880"/>
            <a:ext cx="3810240" cy="2590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1905120" y="2895480"/>
            <a:ext cx="2133360" cy="1752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PE01000_"/>
          <p:cNvPicPr/>
          <p:nvPr/>
        </p:nvPicPr>
        <p:blipFill>
          <a:blip r:embed="rId1"/>
          <a:stretch/>
        </p:blipFill>
        <p:spPr>
          <a:xfrm>
            <a:off x="1547640" y="476280"/>
            <a:ext cx="1387800" cy="319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2268360" y="373392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инт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743200" y="3581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743200" y="358128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80988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-2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ична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ерсо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819520" y="3276720"/>
            <a:ext cx="3809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48640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,5-3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социјал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осл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819520" y="266688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162920" y="3429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јав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3419640" y="476280"/>
            <a:ext cx="5040000" cy="100800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Зо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комуникациј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јед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10:51Z</dcterms:created>
  <dc:creator>Sorak</dc:creator>
  <dc:description/>
  <dc:language>en-US</dc:language>
  <cp:lastModifiedBy>Slavica</cp:lastModifiedBy>
  <dcterms:modified xsi:type="dcterms:W3CDTF">2017-01-30T06:17:29Z</dcterms:modified>
  <cp:revision>19</cp:revision>
  <dc:subject/>
  <dc:title>Вештине комуникације</dc:title>
</cp:coreProperties>
</file>